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64B-891B-4BBD-951C-0D93D700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8FD-7B2A-4CAB-9FE3-696FD8C2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656-26B4-45AE-85EF-F01FA2EF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C8A-D5F4-4CED-A4BB-8F9BC59E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7FD-CD25-4189-A89E-17762FA6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784-EAB1-4392-A641-088A2B2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179-6DC1-4B22-99B2-207B6DF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BD3-FC8E-4D07-AAD4-AD6DE141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5C7-E317-419F-8A0E-88EB41A5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E28-D4D9-41C0-8BD2-DC5554E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7B8-1AA1-46E1-91F4-819DDCC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689-932F-447D-8181-14A315D3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E8A-3364-42CA-A512-0532C351D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rded 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bearded Dragons. Beardies are common pets and are very doc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L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Bearded li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ies originally come from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cute, but when there mad they can be sc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 should know, I'm one of the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osmo"/>
          <p:cNvPicPr/>
          <p:nvPr/>
        </p:nvPicPr>
        <p:blipFill>
          <a:blip r:embed="rId1"/>
          <a:stretch/>
        </p:blipFill>
        <p:spPr>
          <a:xfrm>
            <a:off x="5105520" y="19810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rded Dragons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ed dragons eat veggies such as kale, squash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eat bugs (EW!!) such as crickets, wax worms, super worm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154188[1]"/>
          <p:cNvPicPr/>
          <p:nvPr/>
        </p:nvPicPr>
        <p:blipFill>
          <a:blip r:embed="rId1"/>
          <a:stretch/>
        </p:blipFill>
        <p:spPr>
          <a:xfrm>
            <a:off x="5402160" y="1828800"/>
            <a:ext cx="267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ology of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ed dragon feces is the size of chihuahua p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white stuff? That's 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te is  their p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mushy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1"/>
          <a:srcRect l="48051" t="32052" r="29310" b="37359"/>
          <a:stretch/>
        </p:blipFill>
        <p:spPr>
          <a:xfrm>
            <a:off x="5105520" y="2133720"/>
            <a:ext cx="3306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bearded dragon typed this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58Z</dcterms:created>
  <dc:creator>Yellow Springs Exempted Village School District</dc:creator>
  <dc:description/>
  <dc:language>en-US</dc:language>
  <cp:lastModifiedBy>Mommy</cp:lastModifiedBy>
  <dcterms:modified xsi:type="dcterms:W3CDTF">2011-11-18T01:33:16Z</dcterms:modified>
  <cp:revision>20</cp:revision>
  <dc:subject/>
  <dc:title>Bearded Dragon’s</dc:title>
</cp:coreProperties>
</file>